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8339-86CD-493F-AEB3-DB99DB3D9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77F7-E2F8-4C5B-ACD2-80804956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5136-0D8C-4A3E-B3EA-AB01F4ABC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ADAC-F1C6-4DD9-BE69-1435A963E7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9FEDA-380F-49F1-B716-1C8DD28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AA15-AE7C-4565-AC22-FC72195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61BC-6EEB-4554-9C13-F0B0E46D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2C301-C104-4613-A6AB-6B649B0E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0253-4B3F-472C-8379-99E9356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AD1D-A30D-407B-BEE2-B6A8EB3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B38C1-3BE7-4BAA-B05D-69FCB42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0E0D-1769-422C-A19C-05ED120E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6748B-6A03-49F2-9575-EC8A662A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942F-2FC6-4127-A3DC-3260F0B6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F065-9F77-4348-966D-6A726FE00AC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C48AF-D7F8-40AE-955E-5B4A7E54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505FB-CCA7-4640-A51D-96BE31E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41E1-2911-4721-8708-AA6BC9B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353B7-AD51-488C-98E4-BA0F9AA4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66E10-AAA6-4477-A3F0-8230BB65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F6727-6B68-4845-92E8-8D09210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86B6-CE45-41E4-9C66-991ED39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9EDC-99AE-4D20-9B9E-37C0880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DF6E-719B-495E-AFEC-4FD780C5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644A-A009-45B8-B05F-82613595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C3F8-13CA-4761-822B-66B703C0AC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80F1D-5719-44B3-AC78-B939B9BF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68440-F55D-431F-810C-72C841C1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1D052-E064-40EE-9D05-FACE92C9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F4DD6-3569-473D-B4D8-032F9F3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D8809-4DBC-4400-892A-ED1CFAE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CFE14-872C-45A0-A5B8-47C4417D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10CC0-4363-470A-8A7F-9D138D8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5FB74-B9B3-484F-B407-184F98F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E7DFD-FA59-41FD-A957-CC8D175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7A76A-0ED3-4FDC-BA17-BE2F3FC4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010-02B5-484F-A386-A973560BE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310E-A00D-4983-AFAC-CCC0F82D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59F95-FE68-455B-B4A2-938C40A5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234D7-7CED-4630-A53B-77C52F05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0C9FA-4365-4979-AD35-834C4549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4DBC1-C0CB-4A2A-B886-4C7D1D01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E1BCB-64CC-4BF3-968E-FC8CE58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CBCB3-648A-4ABD-8080-00CD937F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E7EE9-8F0D-41FF-A052-1FEC335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FE390-6F4C-4179-B467-BB8121F9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1437A-5C57-4C4A-812D-8194338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75B-36CD-49A6-955F-FE59735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C8AEA-4215-4E1B-8B28-6F7772D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517A6-121E-48D5-A062-923A5134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DCED2-BDC3-492C-ADCB-EEE179C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3F5EF-085D-4B74-8B8E-1AFE61DF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61CE1-B093-44D3-8349-3B2AAB2F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08C-CE6C-48EC-B55A-4125D038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800-BF44-4B11-9647-F1D14C6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2F8-0D92-4553-ADB7-703874B4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960-6760-43ED-9F4D-E143A102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42F-94C8-4B4F-BF80-C6F924F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ECD5-BA39-4C2C-9AE9-70AF1FB9D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64A-501F-41FC-ADE6-EE9C8B2B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E0B-99D6-451D-90C8-5BADEBD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934-DA46-4C2A-B2EA-4DCA5E3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BA3-35DD-4A0A-9B76-54BB24E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FE5-592E-4C40-8AF3-AB7019D0A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1E57-5CDF-4F73-961A-3D78A1D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F8B-BB21-421C-ABCB-7478A65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FBEF-2522-46AA-9F78-00A9B757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C403-4B39-4592-9615-ECADCFD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3A19-327E-4E85-807C-B83AED6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57DF-8A43-4E6E-9B71-2B2670EEA0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A71-073C-4B3D-ABDB-CE930FEA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0D34-C68C-486F-BD05-2BE29C3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49D9-C23F-43DD-A922-98296A5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681C-A368-4360-9C3C-1DF3796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E27-98B0-4566-9936-5D0797AF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9F33-E7BA-4943-BB95-F108C4D6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FD4C-0225-4BF4-8CF4-DA24F7BE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7FA2-9403-47DC-B567-215A34AF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FEAC-FC4C-44BC-A5DE-4DFD484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2345-5DDE-4B28-B3B5-5FBE24F5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0C3F-AF99-46E8-BD08-9813A066E4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5FD6-CCF4-499C-9317-7CB008E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41FD-2F87-4DCF-AE85-7D1F79DC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2A2A-FE2D-487F-B0F3-76EDC5B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B728-B936-435B-A0ED-BF8BB56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6BEE-C7B5-49A8-B03A-79B26A1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F579-843A-419C-92D4-6F60C3E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014F-A8EE-49A7-AE42-5FA73FBD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BFF5-037E-4DEF-A02D-8ECA9073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1109-C304-4DBF-9C14-66B791C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0FD6-493D-44DE-A5E1-406C2B2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0890-DE5A-4B26-ADE0-13FE7029E7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3B19-39E4-435C-B1FB-9EEBAB9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655E-C8DC-4926-BA1F-9911F35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6F0F-DEA9-414A-8E27-DF4297F3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C02B-E3AD-44ED-9304-5025083E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BDE6-735F-43F7-A359-1923D8B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2897-0AB6-49AE-9E93-EB1ABD3D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D99E-C7EB-4102-99D2-7DC722F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A140-5FB3-472C-92F6-F7D9F83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C7A9-F42E-4A47-B8D4-38F583D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D16A-A791-47DE-BEAD-625E8593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192C-1F9D-46A1-AE23-C96ABE9147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B41A-1942-4B0E-BD4D-09C774A9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473B-58B4-44C9-921E-AF98699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E37C-E5E6-4028-AEAE-908482E2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67C6-2AB2-421E-86F0-A6DEC9FB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1C5D-C138-4492-8546-428BDF4A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EAEB-8F2E-447B-8802-2022CEF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3EF6-343C-4711-A803-0E7F3A8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79A7-8839-4D08-A972-943DB51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4EB1-44D8-4204-9025-EDCBD10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FA72-16B4-44DF-8DD0-4654C9E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4099-10E9-4D8B-B15D-10BE3741E7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3C46-AAD3-4B5A-9107-E9006BC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25A8-B016-4F4C-956F-DEC05B48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1FD4-A29B-4AF7-8316-986EBDC6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73CAA-41A3-44C4-BA2F-ACEFBEA2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7238-0571-453F-BD0D-404165BC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146A-6C9E-488E-8D5C-CD563D1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B0A7-4F9D-426D-A125-3A6C850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7F07-93F6-43AD-B240-50D12945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BCF7-46D8-43DB-B97C-9C956B4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F3A6-A334-4984-912D-4FAC0FC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D55F-BBA9-4F10-A8E2-EEE8AC2254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11D7-BB22-4276-8052-22989D7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86AE-6643-4236-BB54-60B02C9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12E3-3C51-4812-A31E-D3EF03B4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2F8E0-59FA-44C9-83EE-8CA6E3AE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E7AD-C39C-4DAE-B3E6-49FC6D30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97DB-CCFE-4347-AC34-5269B752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677A-E440-4EAD-B26D-8FF6133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545B-FD4D-483D-B3FE-F4A7B19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4996E-F8D8-4B13-9993-836E85F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FD7C-BA59-47D0-8854-DAD50F9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AA33-ED4F-486E-9810-C4FDA88989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B7E1-F503-479F-9ADF-7D211E28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D1AF-39AA-44F0-8F2E-965FCF9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B719B-5D4E-4378-92BE-A435FCF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D28F2-96FF-4455-BB36-FE97025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2024-FBAA-4F3A-BA5D-2FFBF3D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7753F-B21E-4201-AB39-9B50154B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AF1D-7782-4B37-9F0D-23535CDD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DFB2E-4321-47BF-9E11-24CD0506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BDF2D-D418-46E2-95FF-26423950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CDAC6-C463-4DD8-98BD-BB3E004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37FA-D280-47B8-AD72-1FF644C52D5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5B3F-64C7-46E4-84C8-AF5DEA2D6A2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8A9-742F-493C-AB5E-B1DDA54D75A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2D7-CCDF-4432-87C3-8288F35A7C1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D433-FD9D-4AB6-9339-714FBF33FDB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4CA-2F21-469D-B734-183896F1D27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29E-78B4-40AC-80D8-988BDFCB9FF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069-FE26-4064-B07A-70A89867116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3B4-62FF-4173-B13C-219828A81A0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B00A-AAB5-4EEB-A437-A8A30385152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B7FE-9E2D-4BBC-AA78-2E4B3149ECF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B65-6F86-47AD-A092-FEFC0D941B4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candy bouquets. The starting price is $16 for five candy bars and another $1.99 for each additional candy bar. Write an equation in slope-intercept form that expresses the total amount of the candy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1.99x + 16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flower shop sells Mother’s Day pink chrysanthemums in wicker baskets. The wicker basket costs $11, and each flower is $3. Write an equation in slope-intercept form that expresses the total amount a Mother’s Day gift would co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3x + 1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loriculture students develop floristry prices by using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loriculture—FL 1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velop marketing and pricing strategies for retail florist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n invoice for sale using industry standard formula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create linear models to represent problem sit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telephone bill is $10 per month plus $0.30 per minute for long distance calls. Write an equation in slope-intercept form that expresses the total amount of the phone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-intercept form: y = mx + b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m = slope of the lin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x = variabl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b = y-intercept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 = rise/ru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lower shop charges $25 for a bouquet of six lily flowers. Each additional lily costs $2.75. Write an equation in slope-intercept form that expresses the total amount of the flower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Remember the slope-intercept form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y = mx + b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set cost ($25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cost that changes according to the x variab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75x + 2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rose boutonnieres for a beginning price of $9. Each additional small rose adds an extra $2.50 to the price. Write an equation in slope-intercept form that expresses the total amount of a boutonnie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slope of the line = $2.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y-intercept, set number = $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5x + 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1T05:03:17Z</dcterms:modified>
  <cp:revision>15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8615957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